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4164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4164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A6CA974-8373-43F3-85B2-96E176561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5DCE585-A698-4D84-99CD-45243001A1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60CBA12-2D17-4F58-B899-9E2B42298E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19E8DE6-4B4D-448C-86BB-FB269D9B9E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783A5A0-B10E-45B8-8CC4-FF908558C1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E493615-CF0D-4505-B2D6-78DF6B67E8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E584C90-44CA-4B59-992D-13CE76F696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F3CA696-3506-4899-82F2-5FB09FEFB8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4E5EBFB-ABA0-4497-ACCA-7354C92EAF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3AA23DF-1CF6-433D-9705-D3BA95ED5D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0230053-418C-4C25-A47C-83F1168A4E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8C1971B-9FEB-4CED-8C7A-2DB973006D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5B96CB8-F2A5-402A-821C-98B43CF6F8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ABE9035-98DF-4E67-9DAF-9798B555CD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32F6902-636C-41EA-BC5D-3A9ED4364B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4F86C98-1F32-4B94-8BCA-FC47006B5A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1C420E6-5096-4B2F-BB2A-6C5EFAE01D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0711A91-F035-4E05-9FDF-42AE3353E0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90ED0FC-4128-4519-B0BE-285F818769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FD57664-23A9-4D6C-81EE-0877928012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23166C7-A706-4B52-B0FC-23FCD14CDA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0DF7B6C-CE16-4766-8D0B-ADC6487E7E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745FF30-10D3-43AE-B58F-1B4580C1DE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425C0A0-9CE2-45F5-B300-BDB29EB863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BD93FB0-6A7C-443E-9A98-EA561A3FD1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6666E38-675E-44DA-9D5A-CBF8E74569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03AE2DD-5002-407B-9558-E22AE4FADF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CCC199F-0C1D-46D4-942D-98EE6572F4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2C3A39F-A490-4030-A28F-A81FE81676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90A6262-ED95-41B3-B234-F933A66D3F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341F4B7-3F8A-48D2-9952-E1379E7300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3244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Hands: An Introduction to the Crime of Intimate and Family Violence, 4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ssel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. •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F6A9-5DAF-4F23-9DAF-C3C49FC33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"/>
          <p:cNvPicPr/>
          <p:nvPr/>
        </p:nvPicPr>
        <p:blipFill>
          <a:blip r:embed="rId3"/>
          <a:stretch/>
        </p:blipFill>
        <p:spPr>
          <a:xfrm>
            <a:off x="4038480" y="6248520"/>
            <a:ext cx="114300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Chapter:14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on the Interne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PA  Guidelin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Publication Manual of the) American Psychological Association (APA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 reference format sty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rent style is described in the fifth edition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ation Manual of the American Psychological Association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rge reference book that contains hundreds of guidelines on how to format references, statistics, tables, punctuation, and gram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so contains writing tips and instructions about how to format manuscr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ntistalking Site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alking Resource Cen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a wide range of useful information for practition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ls include research on stalking, practitioner-specific educational tools, multidisciplinary curricula, model protocols, and mo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information about stalking laws in the following categor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minal stalking laws b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vil stalking laws b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bal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deral interstate stalking sta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deral laws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i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ing stalking la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lking protection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ttp://www.ncvc.org/src/main.aspx?dbID=dash_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ild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hildren, Youth, and Family Consort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 Welfare Information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ational Center for Missing and Exploited Child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hild Abuse Prevention 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cy Faulkner’s Pandora’s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ent  Abuse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Association of Guardian Ad L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Research on Violence against Women and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.S. Department of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ults and Children Together Against Vio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Tr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ffice of Juvenile Justice and Delin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Professional Society on the Abuse of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ild Death Investig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Trends in Child Abuse Reporting and Fatalities: The Results of the 2000 Annual Fifty-State Surv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gency Council on Child Abuse and Neglect, administers the National Center on Child Fatality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ken Baby Al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erican SIDS Instit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ild Mentoring and Prevention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’s 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Brothers/Big Sisters of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s Scouts of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ys and Girls Clubs of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riminal Justice Sit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form Crime Repor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Incident-Based Repor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 N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report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J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V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Citizens Crime Prevention Campa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NCJRS:  Contributing agencie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838080"/>
            <a:ext cx="8345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of Justice Programs (OJP), U.S. Department of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of the Assistant Attorney General (OA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ions Program Office (C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 Courts Program Office (DC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ve Office for Weed and Seed (EO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for Domestic Preparedness (O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of the Police Corps and Law Enforcement Education (OPCL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olence Against Women Office (VAW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eau of Justice Assistance (BJ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eau of Justice Statistics (BJ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Justice (NI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for Victims of Crime (OV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of Juvenile Justice and Delinquency Prevention (OJJ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of National Drug Control Policy (ONDCP), Executive Office of the Pre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sability Resourc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295280"/>
            <a:ext cx="834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ericans With Disabilities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 for Research on Women with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Department of Jus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stitute on Community Integra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LBT Partner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y and Lesbian Domestic Violence Bibli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munity United Against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Abuse for Every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y Men’s Domestic Violenc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pus Christie Police Department in Tex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eneral Inform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mily Violence Prevention F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nesota Center Against Violence and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estic violence is an emerging field of study that is frequently changing and being updated with new exciting inform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net is an important resource on domestic violence, since all studies conducted with federal government funding are now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and federal laws are often posted along with a legal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Supreme Court decisions are available more quickly than from traditional sour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profit organizations and self-help groups are accessible and share resources over the Intern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job postings are listed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lobal Inform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838080"/>
            <a:ext cx="834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men W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alian Domestic and Family Violence Clearing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Al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men’s Rights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ern Ireland Women’s Aid Fe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men’s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mily Violence Prevention F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uman Rights Watch Global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overnment Sit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838080"/>
            <a:ext cx="834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eau of Justice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minal vic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ulations under correctional super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deral criminal offenders and case process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iodic data series include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of law enforcement agencies and correctional 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secutorial practices and pol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court cas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ony conv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s of correctional pop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minal justice expenditure and 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vil case processing in state cou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Studies on other criminal justice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imate Partner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stitute on Domestic Violence in the African American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sian &amp; Pacific Islander Institute on Domestic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ewish Coalition Against Domestic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ional Latino Alliance for the Elimination of Domestic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omestic Abuse Helpline for Men and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ttered Women’s Justice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imate Partner Violence 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ontinued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ional Online Resource Center on   Violence against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to Mending the Sacred Hoop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ional Indian Child Welfare Associ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ibal Court Clearing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r-Involved Domestic Violenc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estic Violence Survival K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ional Coalition against Domestic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eminist Majority Fou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Judicial Sit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 Judges Associ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Domestic Violence and the Courtroom—Understanding The Problem…Knowing the Vic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American Indian Court Judges A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Council of Juvenile and Family Court Judg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mily Violenc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aw Enforcement Sit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3712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me Sp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Cecil Greek criminal justice pages, FS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omestic Violence section of the Metro Nashville Police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Angeles Police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egal Sit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and local government web pages is a Library of Congress Internet resource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erican Bar Association’s Commission on Domestic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del Code on Domestic and Family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BC Guide for Judges Handling Interstate Cases Involving Children and Fami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Information Institute, U. S. Supreme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Law: Internet Lega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arital and Date Rap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mpus Gender Violenc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 Enforcement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rugs of Ab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ce Over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ional Center for Victims of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een Dating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thInf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ional Teen Dating Abuse Ho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Youth Violence Prevention Resourc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estic Violence Enhanced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Victim’s Assista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Department of Justice, the National Victim Assistance Acade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Against Violenc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ional Center for Victims of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762120" y="990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names identify a location on the Internet as an address known as the uniform resource locator (URL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part of any domain name identifies the person, place, or organization located at the addres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part of the domain name identifies the group to which the address belo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Violence Against Older Adult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9480" y="1295280"/>
            <a:ext cx="834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ional Clearinghouse on Abuse in Later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ministration of 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Center on Elder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earinghouse on Abuse and Neglect of the Elde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orld Wide Web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pular network service on the Internet is called the World Wide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in 1991, the Web, or WWW, supports graphics, audio, and video in addition to t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ld Wide Web is a system of interlinked hypertext documents accessed via th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eople think of the Internet and the World Wide Web as being the same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 is merely one of the many services that can be accessed over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rowser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wser is a program used for viewing Web sites on th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Windows PC browser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 Internet Explor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zilla Firefox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ar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users may be interested in Safari, Mozilla Firefox, Opera, and Shi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etting Onto the World Wide Web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use of the Internet is for communic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do use the World Wide Web to communicate with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 can occur in two ways: on a personal level or the group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munication is accomplished through e-mai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method is on the group level, this refers to user and chat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Basics of the Internet Search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ory search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ject tree style catalogs, organizes into major top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times called worms, spiders, harvester, or wander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search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es engines and directory and eliminates duplicate results, takes longer because engine must process more information before producing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valuating Your Sour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post information on the World Wide Web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ne needs is an ISP, a computer that will offer access to the Internet and store that information for others to retrie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means that there is a lot of junk out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iminating surfers understand that information obtained through the World Wide Web must be scrutinized for its cred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ix Step Model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utinize your online sources with this six step model.  If you cannot answer these questions, to find alternative information that is more suitable for your pro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58:21Z</dcterms:created>
  <dc:creator>MDC</dc:creator>
  <dc:description/>
  <dc:language>en-US</dc:language>
  <cp:lastModifiedBy>Michelle Churma</cp:lastModifiedBy>
  <dcterms:modified xsi:type="dcterms:W3CDTF">2009-08-04T15:44:01Z</dcterms:modified>
  <cp:revision>133</cp:revision>
  <dc:subject/>
  <dc:title>Slide 1</dc:title>
</cp:coreProperties>
</file>